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jpeg" ContentType="image/jpeg"/>
  <Override PartName="/ppt/media/image1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0FC-A8CA-4DA0-8B10-EC0CAA45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B70-8C2C-4818-9563-250CA268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FB6-C220-4486-8ACE-06723699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2BE-BC98-4C37-9C75-A5ED0F1F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FC60-A1C5-42DD-9DF8-CB843FB2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54ED-90EC-4CDB-AE21-C91F9E2A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9DB-314E-4952-B660-8613F014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8D3C-C562-4F07-A814-1C05B7EC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5512-1D43-4FCB-8731-F320C6C0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4B99-908B-4F73-8C43-BB237349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38DA-D641-4A53-BEC7-AA5D075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E18-93B2-4B89-83CB-5D2E1844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478F-1A5F-47A3-BBD6-AC4D495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5BD-9524-412D-843D-EBE3043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1C60-2DF1-405F-9008-579DDFD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750A-67CA-46A5-BE6C-15B2BBAE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39EA-5015-4A84-B2A2-847975E9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341-C02C-4976-9C57-FC15617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076-C633-4906-B10C-784B4F5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B36-4D0E-4B32-A273-73338B1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E6D-B1E6-4C79-ACC2-319A1F2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EF8-D938-4073-B2E3-5589E70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61C-CBE3-424D-8D21-5365125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128-F9D8-4568-8EFB-B6D963A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CE21-EF85-4724-B242-006BFEC4A3D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BF09-8FBA-404A-95E8-3EDE01F4A09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b7"/>
                </a:solidFill>
                <a:latin typeface="Comic Sans MS"/>
              </a:rPr>
              <a:t>     </a:t>
            </a:r>
            <a:br>
              <a:rPr sz="3600"/>
            </a:br>
            <a:br>
              <a:rPr sz="3600"/>
            </a:br>
            <a:r>
              <a:rPr b="1" lang="ro-RO" sz="3600" spc="-1" strike="noStrike">
                <a:solidFill>
                  <a:srgbClr val="ffffb7"/>
                </a:solidFill>
                <a:latin typeface="Comic Sans MS"/>
              </a:rPr>
              <a:t>       </a:t>
            </a:r>
            <a:br>
              <a:rPr sz="3600"/>
            </a:br>
            <a:br>
              <a:rPr sz="3600"/>
            </a:br>
            <a:r>
              <a:rPr b="1" lang="ro-RO" sz="3600" spc="-1" strike="noStrike">
                <a:solidFill>
                  <a:srgbClr val="ffffb7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EU SI EMOTIILE MEL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88800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55840" y="1905120"/>
            <a:ext cx="621180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ULTUMIM PENTRU CA ATI PRIVIT MATERIALUL NOSTR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ri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l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dal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rist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 Black"/>
              </a:rPr>
              <a:t>CE EMOTII STIU SA DESENEZ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BUCU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STETE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880920" cy="9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79524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79524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732720" y="3357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788000" y="4581360"/>
            <a:ext cx="934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4869000"/>
            <a:ext cx="142920" cy="144360"/>
          </a:xfrm>
          <a:prstGeom prst="ellipse">
            <a:avLst/>
          </a:prstGeom>
          <a:solidFill>
            <a:srgbClr val="1c1c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4869000"/>
            <a:ext cx="142920" cy="144360"/>
          </a:xfrm>
          <a:prstGeom prst="ellipse">
            <a:avLst/>
          </a:prstGeom>
          <a:solidFill>
            <a:srgbClr val="1c1c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724280"/>
            <a:ext cx="792360" cy="865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217000">
            <a:off x="5184720" y="5192640"/>
            <a:ext cx="14436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10" y="1295"/>
                  <a:pt x="7220" y="5080"/>
                  <a:pt x="7220" y="10800"/>
                </a:cubicBezTo>
                <a:cubicBezTo>
                  <a:pt x="7220" y="16520"/>
                  <a:pt x="14410" y="203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U SUNT CATEODATA TRISTA, DAR DE MULTE ORI BUCUROAS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02292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7367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E IMI PLACE CAND SUNT BUCUR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 Black"/>
              </a:rPr>
              <a:t>CINE SUNT EU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97400" y="1125360"/>
            <a:ext cx="2853000" cy="359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291816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FAMILIA  SI CASA TA ESTI CEL MAI IUBIT</a:t>
            </a: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40684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CATEODATA SUNT DOAR TRI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78120" y="1905120"/>
            <a:ext cx="59259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br>
              <a:rPr sz="4000"/>
            </a:br>
            <a:br>
              <a:rPr sz="4000"/>
            </a:b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8:40:01Z</dcterms:created>
  <dc:creator> Carmen</dc:creator>
  <dc:description/>
  <dc:language>en-US</dc:language>
  <cp:lastModifiedBy>curs</cp:lastModifiedBy>
  <dcterms:modified xsi:type="dcterms:W3CDTF">2011-02-25T15:13:17Z</dcterms:modified>
  <cp:revision>34</cp:revision>
  <dc:subject/>
  <dc:title>Slide 1</dc:title>
</cp:coreProperties>
</file>